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CAB10-1AC3-4D04-8EBF-D991E2FB7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64010-E92F-44EE-AAFC-8C454266B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5EABC-72F3-4DAD-8242-F5DBF89E6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F3BDA-625E-4AA2-A00A-9F7C7203F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701ED-18B8-4BB9-996E-78FA11222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2A8EF-BE4F-4FB5-B37F-15869C24A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CC6B1-EFA2-4694-AE61-E65BC82B3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66D4B-EB25-4284-958F-C69D2231F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A2391-0F32-44AB-B831-77E85CDF7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BD7FF-9F88-4168-A5C4-26CBDF316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ED794-3808-4388-8DDF-012388C2E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1B0AF-3929-4BCF-B215-59F7BFDB9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7600E-3F6F-4DF9-97E9-BF32A4EA3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0DBA5-4A68-480E-AC3D-BE2B49FB5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A05AF-2152-4476-A4D2-828E7DB4E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A8A79-F90D-498E-A952-8CDF26D53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F279B-467F-495B-8112-287760C13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82ABC-263B-42C3-85C5-2C0BD9F6E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EFF7B-5E9B-4937-AC04-3F0037BAA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BC30A-8E7F-41A8-83AB-34C3570ED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6702E-B123-4CC0-BF78-AC458816C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4E28E-0EAF-4BF0-A8C0-02B64C08B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1C44F-D4C4-43BF-852A-12B1546C5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999F-1D98-45C5-B84A-920A03B3E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5e5e8e"/>
                </a:gs>
                <a:gs pos="100000">
                  <a:srgbClr val="585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Click to edit the title text format</a:t>
            </a:r>
            <a:endParaRPr b="0" lang="en-US" sz="4400" spc="-1" strike="noStrike">
              <a:solidFill>
                <a:srgbClr val="d1d1d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2086-F075-46F9-84BC-97BC8F6EF71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e5e8e"/>
                </a:gs>
                <a:gs pos="100000">
                  <a:srgbClr val="4f4f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82E6-E707-473A-8B99-B4C1FFAFE62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Tahoma"/>
              </a:rPr>
              <a:t>Click to edit the title text format</a:t>
            </a:r>
            <a:endParaRPr b="0" lang="en-US" sz="5400" spc="-1" strike="noStrike">
              <a:solidFill>
                <a:srgbClr val="d1d1d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ds.yahoo.com/_ylt=A2KJkK5bcdlNqE8ABeWjzbkF/SIG=13dr3nk4e/EXP=1306124763/**http%3A//d410195.u33.truepath.com/images/MongoliaMap%252072%2520%2520low%2520resolution.gif" TargetMode="External"/><Relationship Id="rId2" Type="http://schemas.openxmlformats.org/officeDocument/2006/relationships/image" Target="../media/image1.png"/><Relationship Id="rId3" Type="http://schemas.openxmlformats.org/officeDocument/2006/relationships/hyperlink" Target="http://rds.yahoo.com/_ylt=A2KJkeyKcdlNORsAGUqJzbkF;_ylu=X3oDMTBpZm5udGl1BHBvcwM1BHNlYwNzcgR2dGlkAw--/SIG=1k80hjaki/EXP=1306124810/**http%3A//images.search.yahoo.com/images/view%3Fback=http%253A%252F%252Fimages.search.yahoo.com%252Fsearch%252Fimages%253Fp%253Dmongolia%252Bflag%2526sado%253D1%2526ei%253Dutf-8%2526fr%253Dfp-tts-701%2526fr2%253Dsg-gac%26w=3840%26h=2160%26imgurl=upload.wikimedia.org%252Fwikipedia%252Fcommons%252F0%252F06%252FFlag_of_Mongolia.jpg%26rurl=http%253A%252F%252Fcommons.wikimedia.org%252Fwiki%252FFile%253AFlag_of_Mongolia.jpg%26size=216KB%26name=File%253AFlag%2Bof%2BMon...%26p=mongolia%2Bflag%26oid=719537e5faa3de3fc81a1c54eecd9019%26fr2=sg-gac%26no=5%26tt=10300%26sigr=11r0k7dmf%26sigi=120vf3jp4%26sigb=135g4gi73%26.crumb=aDnXii2qbbF" TargetMode="External"/><Relationship Id="rId4" Type="http://schemas.openxmlformats.org/officeDocument/2006/relationships/image" Target="../media/image2.jpeg"/><Relationship Id="rId5" Type="http://schemas.openxmlformats.org/officeDocument/2006/relationships/hyperlink" Target="http://rds.yahoo.com/_ylt=A2KJkK7zcdlNyVgAtGmjzbkF/SIG=12tlve9t8/EXP=1306124915/**http%3A//www.justfoodnow.com/wp-content/uploads/2009/08/yurts-at-night1.jpg" TargetMode="External"/><Relationship Id="rId6" Type="http://schemas.openxmlformats.org/officeDocument/2006/relationships/image" Target="../media/image3.jpeg"/><Relationship Id="rId7" Type="http://schemas.openxmlformats.org/officeDocument/2006/relationships/hyperlink" Target="http://rds.yahoo.com/_ylt=A2KJkK4sctlNs1EALL6JzbkF;_ylu=X3oDMTBpaWhqZmNtBHBvcwMzBHNlYwNzcgR2dGlkAw--/SIG=1i7mj0o8j/EXP=1306124972/**http%3A//images.search.yahoo.com/images/view%3Fback=http%253A%252F%252Fimages.search.yahoo.com%252Fsearch%252Fimages%253Fp%253Dmongolian%252Bhouses%2526ei%253Dutf-8%2526fr%253Dfp-tts-701%26w=800%26h=536%26imgurl=www.happytellus.com%252Fimg%252Fmongolia%252Fto-byl-nasz-domek_5113.jpg%26rurl=http%253A%252F%252Fwww.happytellus.com%252Fgallery.php%253Fimg_id%253D5113%26size=83KB%26name=Traditional%2BMong...%26p=mongolian%2Bhouses%26oid=187e4710c6211737c487eae54bddc6c8%26fr2=%26no=3%26tt=18100%26sigr=11igktkjs%26sigi=11rltecec%26sigb=12mqdqf5n%26.crumb=aDnXii2qbbF" TargetMode="External"/><Relationship Id="rId8" Type="http://schemas.openxmlformats.org/officeDocument/2006/relationships/image" Target="../media/image4.jpe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rds.yahoo.com/_ylt=A0PDoX3EeNlNYWsAVBaJzbkF;_ylu=X3oDMTBqMjRpazg1BHBvcwMxMARzZWMDc3IEdnRpZAM-/SIG=1h0009d3b/EXP=1306126660/**http%3A//images.search.yahoo.com/images/view%3Fback=http%253A%252F%252Fimages.search.yahoo.com%252Fsearch%252Fimages%253Fp%253DTsagaan%252Bsar%2526ei%253Dutf-8%26w=350%26h=237%26imgurl=mongolianartist.com%252Fimagesnew%252Ftsagaan_sar11.jpg%26rurl=http%253A%252F%252Fmongolianartist.com%252Feventdetail.cfm%253Fprofileid%253D3025%26size=29KB%26name=Tsagaan%2BSar%2B2009...%26p=Tsagaan%2Bsar%26oid=b3d38b76cc85491711fd6f2642d9085a%26fr2=%26no=10%26tt=1390%26sigr=11pl2vjbp%26sigi=11ffb54mj%26sigb=1236cvjug%26.crumb=aDnXii2qbbF" TargetMode="External"/><Relationship Id="rId2" Type="http://schemas.openxmlformats.org/officeDocument/2006/relationships/image" Target="../media/image24.jpeg"/><Relationship Id="rId3" Type="http://schemas.openxmlformats.org/officeDocument/2006/relationships/hyperlink" Target="http://rds.yahoo.com/_ylt=A0PDoX3xeNlNQmwAZ.uJzbkF;_ylu=X3oDMTBpaWhqZmNtBHBvcwMzBHNlYwNzcgR2dGlkAw--/SIG=1hitardqa/EXP=1306126705/**http%3A//images.search.yahoo.com/images/view%3Fback=http%253A%252F%252Fimages.search.yahoo.com%252Fsearch%252Fimages%253Fp%253Dnaadam%2526ei%253Dutf-8%26w=1811%26h=1871%26imgurl=upload.wikimedia.org%252Fwikipedia%252Fcommons%252F2%252F21%252FNaadam_achery_1.jpg%26rurl=http%253A%252F%252Fcommons.wikimedia.org%252Fwiki%252FFile%253ANaadam_achery_1.jpg%26size=573KB%26name=File%253ANaadam%2Bache...%26p=naadam%26oid=27386f34d5a8a23cbeff4658a0a4bb17%26fr2=%26no=3%26tt=15700%26sigr=11qh4vc2o%26sigi=11vtste23%26sigb=11ulk6j91%26.crumb=aDnXii2qbbF"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Mongolian_cuisine" TargetMode="External"/><Relationship Id="rId2" Type="http://schemas.openxmlformats.org/officeDocument/2006/relationships/hyperlink" Target="http://www.state.gov/r/pa/ei/bgn/2779.htm" TargetMode="External"/><Relationship Id="rId3" Type="http://schemas.openxmlformats.org/officeDocument/2006/relationships/hyperlink" Target="https://www.cia.gov/library/publications/the-world-factbook/geos/mg.html" TargetMode="External"/><Relationship Id="rId4" Type="http://schemas.openxmlformats.org/officeDocument/2006/relationships/hyperlink" Target="http://www.spainexchange.com/guide/MN-education.htm" TargetMode="External"/><Relationship Id="rId5" Type="http://schemas.openxmlformats.org/officeDocument/2006/relationships/hyperlink" Target="http://en.wikipedia.org/wiki/Mongolia#Religion" TargetMode="External"/><Relationship Id="rId6" Type="http://schemas.openxmlformats.org/officeDocument/2006/relationships/hyperlink" Target="http://worldfacts.us/Mongolia.htm" TargetMode="External"/><Relationship Id="rId7" Type="http://schemas.openxmlformats.org/officeDocument/2006/relationships/hyperlink" Target="http://en.wikipedia.org/wiki/Mongolian_culture"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ds.yahoo.com/_ylt=A2KJkK4sctlNs1EALr6JzbkF;_ylu=X3oDMTBpZm5udGl1BHBvcwM1BHNlYwNzcgR2dGlkAw--/SIG=1i3l6v5ik/EXP=1306124972/**http%3A//images.search.yahoo.com/images/view%3Fback=http%253A%252F%252Fimages.search.yahoo.com%252Fsearch%252Fimages%253Fp%253Dmongolian%252Bhouses%2526ei%253Dutf-8%2526fr%253Dfp-tts-701%26w=640%26h=480%26imgurl=divas.pmhclients.com%252Fimages%252Fdivas%252Fmonorph03.jpg%26rurl=http%253A%252F%252Fwww.adventuredivas.com%252Fdivas%252Fprofiles%252Fdidi-kalika%252F%26size=78KB%26name=Mongolian%2BBabies%26p=mongolian%2Bhouses%26oid=4333aade1094190a6dba9801c2998003%26fr2=%26no=5%26tt=18100%26sigr=11pcfk2mi%26sigi=11fa63m6j%26sigb=12mqdqf5n%26.crumb=aDnXii2qbbF" TargetMode="External"/><Relationship Id="rId2" Type="http://schemas.openxmlformats.org/officeDocument/2006/relationships/image" Target="../media/image5.jpeg"/><Relationship Id="rId3" Type="http://schemas.openxmlformats.org/officeDocument/2006/relationships/hyperlink" Target="http://rds.yahoo.com/_ylt=A2KJke6pctlNRAUAc12JzbkF;_ylu=X3oDMTBpY2Y5NXNiBHBvcwM2BHNlYwNzcgR2dGlkAw--/SIG=1n46shrko/EXP=1306125097/**http%3A//images.search.yahoo.com/images/view%3Fback=http%253A%252F%252Fimages.search.yahoo.com%252Fsearch%252Fimages%253Fp%253Dmongolian%252Bpastures%2526ei%253Dutf-8%2526fr%253Dfp-tts-701%26w=1024%26h=768%26imgurl=photography.nationalgeographic.com%252Fstaticfiles%252FNGS%252FShared%252FStaticFiles%252FPhotography%252FImages%252FPOD%252Fm%252Fmongolian-horseman-wiltsie-760627-lw.jpg%26rurl=http%253A%252F%252Fphotography.nationalgeographic.com%252Fphotography%252Fwallpaper%252Fmongolian-horseman-wiltsie_pod_image.html%26size=224KB%26name=mongolian-horsem...%26p=mongolian%2Bpastures%26oid=e6ad4f1f94b680e26d228170fb8d718b%26fr2=%26no=6%26tt=489%26sigr=1395euidn%26sigi=147qdj015%26sigb=12oa3p91o%26.crumb=aDnXii2qbbF"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rds.yahoo.com/_ylt=A2KJke7SctlNSCsAVl.JzbkF;_ylu=X3oDMTBpZm5udGl1BHBvcwM1BHNlYwNzcgR2dGlkAw--/SIG=1hj6oh0jo/EXP=1306125138/**http%3A//images.search.yahoo.com/images/view%3Fback=http%253A%252F%252Fimages.search.yahoo.com%252Fsearch%252Fimages%253Fp%253DBuddhism%2526ei%253Dutf-8%2526fr%253Dfp-tts-701%26w=700%26h=670%26imgurl=theunexplainedmysteries.com%252Fimages%252Fbuddha_big.jpg%26rurl=http%253A%252F%252Flutheransurrealism.blogspot.com%252F2009%252F07%252Fbuddhism-bad.html%26size=357KB%26name=Lutheran%2BSurreal...%26p=Buddhism%26oid=70dd21ebe4a45b4ab73e0b75ba7cb585%26fr2=%26no=5%26tt=480000%26sigr=120bj31g8%26sigi=11h2cdlc0%26sigb=12elhq14p%26.crumb=aDnXii2qbbF" TargetMode="External"/><Relationship Id="rId2" Type="http://schemas.openxmlformats.org/officeDocument/2006/relationships/image" Target="../media/image7.jpeg"/><Relationship Id="rId3" Type="http://schemas.openxmlformats.org/officeDocument/2006/relationships/hyperlink" Target="http://rds.yahoo.com/_ylt=A2KJke72ctlN9HgA2duJzbkF;_ylu=X3oDMTBpdDZuNzZrBHBvcwM5BHNlYwNzcgR2dGlkAw--/SIG=1is3ubtr2/EXP=1306125174/**http%3A//images.search.yahoo.com/images/view%3Fback=http%253A%252F%252Fimages.search.yahoo.com%252Fsearch%252Fimages%253Fp%253DMuslim%2526ei%253Dutf-8%2526fr%253Dfp-tts-701%26w=600%26h=899%26imgurl=plphoto.files.wordpress.com%252F2009%252F03%252F200902280238pl1.jpg%26rurl=http%253A%252F%252Fblog.patricklanephotography.com%252F2009%252F03%252F05%252Fislamic-portraits%252F200902280238pl1%252F%26size=245KB%26name=Young%2BMuslim%2BGir...%26p=Muslim%26oid=a82091b7f1b44332ef0df46adbf50e06%26fr2=%26no=9%26tt=2100000%26sigr=12koempcc%26sigi=11n46rm56%26sigb=12c5go1i4%26.crumb=aDnXii2qbbF" TargetMode="External"/><Relationship Id="rId4" Type="http://schemas.openxmlformats.org/officeDocument/2006/relationships/image" Target="../media/image8.jpeg"/><Relationship Id="rId5" Type="http://schemas.openxmlformats.org/officeDocument/2006/relationships/hyperlink" Target="http://rds.yahoo.com/_ylt=A2KJke17c9lNbwUAG12JzbkF;_ylu=X3oDMTBqaTFoaGxvBHBvcwMxNwRzZWMDc3IEdnRpZAM-/SIG=1mlsrblcg/EXP=1306125307/**http%3A//images.search.yahoo.com/images/view%3Fback=http%253A%252F%252Fimages.search.yahoo.com%252Fsearch%252Fimages%253Fp%253Dchristianity%252Bcross%252Bjesus%252Bcrucifixion%2526sado%253D1%2526ei%253Dutf-8%2526fr%253Dfp-tts-701%2526fr2%253Dsg-gac%26w=909%26h=1549%26imgurl=upload.wikimedia.org%252Fwikipedia%252Fcommons%252Fa%252Faf%252FCrucifixion_Icon_Sinai_13th_century.jpg%26rurl=http%253A%252F%252Fcreedalchristian.blogspot.com%252F2010%252F04%252Fin-our-place.html%26size=1MB%26name=cross%2Bhad%2Bto%2Bbe%2B...%26p=christianity%2Bcross%2Bjesus%2Bcrucifixion%26oid=97205483478b8fcbe96d9c6228962133%26fr2=sg-gac%26no=17%26tt=3950%26sigr=11uvqj8g0%26sigi=12jqcj6ra%26sigb=13s9i3skr%26.crumb=aDnXii2qbbF" TargetMode="External"/><Relationship Id="rId6" Type="http://schemas.openxmlformats.org/officeDocument/2006/relationships/image" Target="../media/image9.jpeg"/><Relationship Id="rId7" Type="http://schemas.openxmlformats.org/officeDocument/2006/relationships/hyperlink" Target="http://rds.yahoo.com/_ylt=A2KJke3ec9lNwBEAKtGJzbkF;_ylu=X3oDMTBpZTByOGFiBHBvcwMyBHNlYwNzcgR2dGlkAw--/SIG=1jir3bj5g/EXP=1306125406/**http%3A//images.search.yahoo.com/images/view%3Fback=http%253A%252F%252Fimages.search.yahoo.com%252Fsearch%252Fimages%253Fp%253Drussian%252Borthodox%252Bchurch%252Bmongolia%2526ei%253Dutf-8%2526fr%253Dfp-tts-701%26w=3648%26h=2736%26imgurl=www.orthodox.cn%252Fimages%252F20090830eerguna1.jpg%26rurl=http%253A%252F%252Fwww.orthodox.cn%252Fcontemporary%252Fneimenggu%252F20090830eerguna_en.htm%26size=2MB%26name=An%2BOrthodox%2Bchur...%26p=russian%2Borthodox%2Bchurch%2Bmongolia%26oid=8bf4c6005e265a4c70f04138a736063b%26fr2=%26no=2%26tt=188%26sigr=124oosq12%26sigi=11bm2dc8m%26sigb=136drcere%26.crumb=aDnXii2qbbF" TargetMode="External"/><Relationship Id="rId8" Type="http://schemas.openxmlformats.org/officeDocument/2006/relationships/image" Target="../media/image10.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One_Laptop_Per_Child_-_Ulaanbaatar,_Mongolia_(by).jpg" TargetMode="External"/><Relationship Id="rId2" Type="http://schemas.openxmlformats.org/officeDocument/2006/relationships/image" Target="../media/image11.jpeg"/><Relationship Id="rId3" Type="http://schemas.openxmlformats.org/officeDocument/2006/relationships/hyperlink" Target="http://rds.yahoo.com/_ylt=A2KJke0ddNlNxAgAFhGjzbkF/SIG=13h1girq7/EXP=1306125469/**http%3A//www.chinadaily.com.cn/ethnic/attachement/jpg/site1/20091022/0013729e4a600c49fa5e09.jpg" TargetMode="External"/><Relationship Id="rId4" Type="http://schemas.openxmlformats.org/officeDocument/2006/relationships/image" Target="../media/image12.jpeg"/><Relationship Id="rId5" Type="http://schemas.openxmlformats.org/officeDocument/2006/relationships/hyperlink" Target="http://rds.yahoo.com/_ylt=A2KJke1HdNlNOgQAGYuJzbkF;_ylu=X3oDMTBqdGFzdWxiBHBvcwMxNQRzZWMDc3IEdnRpZAM-/SIG=1i05u8cia/EXP=1306125511/**http%3A//images.search.yahoo.com/images/view%3Fback=http%253A%252F%252Fimages.search.yahoo.com%252Fsearch%252Fimages%253Fp%253Dschools%252Bin%252Bmongolia%2526ei%253Dutf-8%2526fr%253Dfp-tts-701%26w=1256%26h=942%26imgurl=www.icemenlo.com%252Fimages%252Fstudents%252FMongolia2_small.jpg%26rurl=http%253A%252F%252Fwww.icemenlo.com%252FMongolia.shtml%26size=56KB%26name=...%2Bhad%2Bto%2Bsay%2Ba...%26p=schools%2Bin%2Bmongolia%26oid=701749bce510216b966148a910e3f5a0%26fr2=%26no=15%26tt=22200%26sigr=116iskg9o%26sigi=11kjssbjp%26sigb=12po4olt2%26.crumb=aDnXii2qbbF" TargetMode="External"/><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ds.yahoo.com/_ylt=A2KJkeyFdNlNQ3kAySaJzbkF;_ylu=X3oDMTBqY2pzbGhoBHBvcwMxMQRzZWMDc3IEdnRpZAM-/SIG=1hmjbtknh/EXP=1306125573/**http%3A//images.search.yahoo.com/images/view%3Fback=http%253A%252F%252Fimages.search.yahoo.com%252Fsearch%252Fimages%253Fp%253DMongolian%252Bfood%2526ei%253Dutf-8%2526fr%253Dfp-tts-701%26w=1280%26h=960%26imgurl=www.twentymile.com%252FCookbook%252Fmongolianbeef01.jpg%26rurl=http%253A%252F%252Fwww.twentymile.com%252FCookbook%252Fmongolianbeef.htm%26size=412KB%26name=mongolian%2Bbeef%2Ba...%26p=Mongolian%2Bfood%26oid=895c3dfb059d5d056956ebf7195152f8%26fr2=%26no=11%26tt=28000%26sigr=11kb266ia%26sigi=11f5uaab5%26sigb=12k10g7b9%26.crumb=aDnXii2qbbF" TargetMode="External"/><Relationship Id="rId2" Type="http://schemas.openxmlformats.org/officeDocument/2006/relationships/image" Target="../media/image14.jpeg"/><Relationship Id="rId3" Type="http://schemas.openxmlformats.org/officeDocument/2006/relationships/hyperlink" Target="http://rds.yahoo.com/_ylt=A2KJkeyFdNlNQ3kAxiaJzbkF;_ylu=X3oDMTBpcWpidGtpBHBvcwM4BHNlYwNzcgR2dGlkAw--/SIG=1hd93num6/EXP=1306125573/**http%3A//images.search.yahoo.com/images/view%3Fback=http%253A%252F%252Fimages.search.yahoo.com%252Fsearch%252Fimages%253Fp%253DMongolian%252Bfood%2526ei%253Dutf-8%2526fr%253Dfp-tts-701%26w=623%26h=563%26imgurl=www.starportfoods.com%252FMogolianBeef-BuffetPltUse.jpg%26rurl=http%253A%252F%252Fwww.starportfoods.com%252FMongolian_Beef.htm%26size=374KB%26name=Beef%2Brecipe%252Cspic...%26p=Mongolian%2Bfood%26oid=db34e345faa2cac2aaa93c7aa44a958a%26fr2=%26no=8%26tt=28000%26sigr=11fb3rr27%26sigi=11jvmdtc1%26sigb=12k10g7b9%26.crumb=aDnXii2qbbF" TargetMode="External"/><Relationship Id="rId4" Type="http://schemas.openxmlformats.org/officeDocument/2006/relationships/image" Target="../media/image15.jpeg"/><Relationship Id="rId5" Type="http://schemas.openxmlformats.org/officeDocument/2006/relationships/hyperlink" Target="http://rds.yahoo.com/_ylt=A2KJkeyFdNlNQ3kAyyaJzbkF;_ylu=X3oDMTBqaHBscmZmBHBvcwMxMwRzZWMDc3IEdnRpZAM-/SIG=1ipv1qq4p/EXP=1306125573/**http%3A//images.search.yahoo.com/images/view%3Fback=http%253A%252F%252Fimages.search.yahoo.com%252Fsearch%252Fimages%253Fp%253DMongolian%252Bfood%2526ei%253Dutf-8%2526fr%253Dfp-tts-701%26w=400%26h=300%26imgurl=www.mongolia-attractions.com%252Fimages%252Ftraditional-mongolian-food-21224048.jpg%26rurl=http%253A%252F%252Fwww.mongolia-attractions.com%252Ftraditional-mongolian-food.html%26size=23KB%26name=Traditional%2BMong...%26p=Mongolian%2Bfood%26oid=400f1ea2c3e1d4e7cb739406824b4066%26fr2=%26no=13%26tt=28000%26sigr=1230b55p6%26sigi=12br9o8b3%26sigb=12k10g7b9%26.crumb=aDnXii2qbbF" TargetMode="External"/><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rds.yahoo.com/_ylt=A2KJkewKddlNgjEA.vSJzbkF;_ylu=X3oDMTBpdDZuNzZrBHBvcwM5BHNlYwNzcgR2dGlkAw--/SIG=1kes3hnnp/EXP=1306125706/**http%3A//images.search.yahoo.com/images/view%3Fback=http%253A%252F%252Fimages.search.yahoo.com%252Fsearch%252Fimages%253Fp%253DTsakhiagiin%252BElbegdorj%2526ei%253DUTF-8%2526fr%253Dfp-tts-701%2526fr2%253Dtab-web%26w=527%26h=395%26imgurl=gdb.rferl.org%252F1FAC74F2-09B3-4703-97B5-5296153A8420_w527_s.jpg%26rurl=http%253A%252F%252Fwww.rferl.org%252Fcontent%252FCanadian_Mining_Company_Faces_Troubles_In_Mongolia%252F2001788.html%26size=24KB%26name=Mongolian%2BPresid...%26p=Tsakhiagiin%2BElbegdorj%26oid=6d0027063fbe25b0b5776cb280403cbc%26fr2=tab-web%26no=9%26tt=208%26sigr=12s1sg2ue%26sigi=11tsul99j%26sigb=1377qqpg5%26.crumb=aDnXii2qbbF" TargetMode="External"/><Relationship Id="rId2" Type="http://schemas.openxmlformats.org/officeDocument/2006/relationships/image" Target="../media/image17.jpeg"/><Relationship Id="rId3" Type="http://schemas.openxmlformats.org/officeDocument/2006/relationships/hyperlink" Target="http://rds.yahoo.com/_ylt=A2KJkewKddlNgjEA9PSJzbkF;_ylu=X3oDMTBpaWhqZmNtBHBvcwMzBHNlYwNzcgR2dGlkAw--/SIG=1jg0su0es/EXP=1306125706/**http%3A//images.search.yahoo.com/images/view%3Fback=http%253A%252F%252Fimages.search.yahoo.com%252Fsearch%252Fimages%253Fp%253DTsakhiagiin%252BElbegdorj%2526ei%253DUTF-8%2526fr%253Dfp-tts-701%2526fr2%253Dtab-web%26w=436%26h=640%26imgurl=farm3.static.flickr.com%252F2730%252F4317783523_f64f909ef7_z.jpg%26rurl=http%253A%252F%252Fwww.flickr.com%252Fphotos%252Fworldeconomicforum%252F4317783523%252F%26size=98KB%26name=Tsakhiagiin%2BElbe...%26p=Tsakhiagiin%2BElbegdorj%26oid=5a4387291cc3bf5b5433a8a3425e812d%26fr2=tab-web%26no=3%26tt=208%26sigr=11robc0ls%26sigi=11o124lap%26sigb=1377qqpg5%26.crumb=aDnXii2qbbF" TargetMode="External"/><Relationship Id="rId4" Type="http://schemas.openxmlformats.org/officeDocument/2006/relationships/image" Target="../media/image18.jpeg"/><Relationship Id="rId5" Type="http://schemas.openxmlformats.org/officeDocument/2006/relationships/hyperlink" Target="http://rds.yahoo.com/_ylt=A2KJkK5WddlNN0oA6T6jzbkF/SIG=13n2pjt5t/EXP=1306125782/**http%3A//www.chinadaily.com.cn/world/images/attachement/jpg/site1/20090618/00221917dead0ba4835a3c.jpg" TargetMode="External"/><Relationship Id="rId6" Type="http://schemas.openxmlformats.org/officeDocument/2006/relationships/image" Target="../media/image19.jpeg"/><Relationship Id="rId7" Type="http://schemas.openxmlformats.org/officeDocument/2006/relationships/hyperlink" Target="http://rds.yahoo.com/_ylt=A2KJkK6OddlNYlAAYeqJzbkF;_ylu=X3oDMTBpZm5udGl1BHBvcwM1BHNlYwNzcgR2dGlkAw--/SIG=1je5bnrdt/EXP=1306125838/**http%3A//images.search.yahoo.com/images/view%3Fback=http%253A%252F%252Fimages.search.yahoo.com%252Fsearch%252Fimages%253Fp%253DMongolian%252Bcurrency%252B2011%2526ei%253Dutf-8%26w=720%26h=353%26imgurl=i-collect-it.com%252Fimages%252Fpaper%252520money%252FMongolia%252FMongolia%2525205%252520Tugrik%2525202008.300dpi.jpg%26rurl=http%253A%252F%252Fi-collect-it.com%252Fcollectible%252F2493%252F%26size=146KB%26name=Collect-It.com%253A%2B...%26p=Mongolian%2Bcurrency%2B2011%26oid=06de6c6d0bb4de2789b1ad8f76a5b8bb%26fr2=%26no=5%26tt=103%26sigr=119phfvnf%26sigi=12mm4d9f0%26sigb=12fgfmmat%26.crumb=aDnXii2qbbF" TargetMode="External"/><Relationship Id="rId8" Type="http://schemas.openxmlformats.org/officeDocument/2006/relationships/image" Target="../media/image20.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ds.yahoo.com/_ylt=A2KJke7VddlN33YA2SaJzbkF;_ylu=X3oDMTBpZTByOGFiBHBvcwMyBHNlYwNzcgR2dGlkAw--/SIG=1k1ojti3e/EXP=1306125909/**http%3A//images.search.yahoo.com/images/view%3Fback=http%253A%252F%252Fimages.search.yahoo.com%252Fsearch%252Fimages%253Fp%253DMongolian%252Bdeath%252Bworm%252Bpainting%2526ei%253Dutf-8%26w=600%26h=371%26imgurl=www.geeksix.com%252Fwp-content%252Fuploads%252F2010%252F05%252Fmongolian-death-worm-painting1.jpg%26rurl=http%253A%252F%252Fwww.geeksix.com%252F2010%252F05%252Fgeekpeek-mongolian-death-worm%252F%26size=35KB%26name=GeekPeek%253A%2BMongol...%26p=Mongolian%2Bdeath%2Bworm%2Bpainting%26oid=96976c39abf2a8e6e676e19b03e02dd5%26fr2=%26no=2%26tt=56%26sigr=11tklqrsi%26sigi=12drmfctg%26sigb=12l1b54qh%26.crumb=aDnXii2qbbF" TargetMode="Externa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rds.yahoo.com/_ylt=A2KJke4rdtlNFQQAlZSJzbkF;_ylu=X3oDMTBpdnJhMHUzBHBvcwMxBHNlYwNzcgR2dGlkAw--/SIG=1isvj16n9/EXP=1306125995/**http%3A//images.search.yahoo.com/images/view%3Fback=http%253A%252F%252Fimages.search.yahoo.com%252Fsearch%252Fimages%253Fp%253Dmongolian%252Bindustries%2526ei%253Dutf-8%26w=1600%26h=1200%26imgurl=lh5.ggpht.com%252F_Ca1i0mrlpyk%252FRPB5fD5UABI%252FAAAAAAAAAUA%252FsNNX8BZ-fA0%252F179_7996.JPG%26rurl=http%253A%252F%252Fpicasaweb.google.com%252Flh%252Fphoto%252Fd5usHFWhpib0oXpbh9ERtA%26size=358KB%26name=Mongolian%2Bindust...%26p=mongolian%2Bindustries%26oid=df508dcf46628a76828a695ae1eba312%26fr2=%26no=1%26tt=4970%26sigr=11ros3us0%26sigi=12b0vqfva%26sigb=12c2jgcak%26.crumb=aDnXii2qbbF" TargetMode="External"/><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rds.yahoo.com/_ylt=A2KJke4gd9lN_AcAMYWJzbkF;_ylu=X3oDMTBpdDZuNzZrBHBvcwM5BHNlYwNzcgR2dGlkAw--/SIG=1hiqllj2a/EXP=1306126240/**http%3A//images.search.yahoo.com/images/view%3Fback=http%253A%252F%252Fimages.search.yahoo.com%252Fsearch%252Fimages%253Fp%253Dfirst%252Bhaircut%2526ei%253Dutf-8%26w=800%26h=794%26imgurl=i.pbase.com%252Fg4%252F18%252F146618%252F2%252F91741093.s0X6Yrzr.jpg%26rurl=http%253A%252F%252Fwww.pbase.com%252Fstella97king%252Fimage%252F91741093%26size=118KB%26name=...%2BKing%2B%257C%2Ball%2Bg...%26p=first%2Bhaircut%26oid=7f137f57574186402206aa5be90b0827%26fr2=%26no=9%26tt=166000%26sigr=11gdupf9v%26sigi=11gs80jlt%26sigb=1258qkovr%26.crumb=aDnXii2qbbF"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Kristen ITC"/>
              </a:rPr>
              <a:t>Mongolia</a:t>
            </a:r>
            <a:endParaRPr b="0" lang="en-US" sz="5400" spc="-1" strike="noStrike">
              <a:solidFill>
                <a:srgbClr val="d1d1df"/>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Amanda Vasek</a:t>
            </a:r>
            <a:endParaRPr b="0" lang="en-US" sz="3200" spc="-1" strike="noStrike">
              <a:solidFill>
                <a:srgbClr val="ffffff"/>
              </a:solidFill>
              <a:latin typeface="Tahoma"/>
            </a:endParaRPr>
          </a:p>
        </p:txBody>
      </p:sp>
      <p:pic>
        <p:nvPicPr>
          <p:cNvPr id="90" name="" descr="View Image">
            <a:hlinkClick r:id="rId1"/>
          </p:cNvPr>
          <p:cNvPicPr/>
          <p:nvPr/>
        </p:nvPicPr>
        <p:blipFill>
          <a:blip r:embed="rId2"/>
          <a:stretch/>
        </p:blipFill>
        <p:spPr>
          <a:xfrm>
            <a:off x="5943600" y="304920"/>
            <a:ext cx="2762280" cy="1623960"/>
          </a:xfrm>
          <a:prstGeom prst="rect">
            <a:avLst/>
          </a:prstGeom>
          <a:ln w="0">
            <a:noFill/>
          </a:ln>
        </p:spPr>
      </p:pic>
      <p:pic>
        <p:nvPicPr>
          <p:cNvPr id="91" name="" descr="Go to fullsize image">
            <a:hlinkClick r:id="rId3"/>
          </p:cNvPr>
          <p:cNvPicPr/>
          <p:nvPr/>
        </p:nvPicPr>
        <p:blipFill>
          <a:blip r:embed="rId4"/>
          <a:stretch/>
        </p:blipFill>
        <p:spPr>
          <a:xfrm>
            <a:off x="380880" y="5315040"/>
            <a:ext cx="2133720" cy="1200240"/>
          </a:xfrm>
          <a:prstGeom prst="rect">
            <a:avLst/>
          </a:prstGeom>
          <a:ln w="0">
            <a:noFill/>
          </a:ln>
        </p:spPr>
      </p:pic>
      <p:pic>
        <p:nvPicPr>
          <p:cNvPr id="92" name="" descr="View Image">
            <a:hlinkClick r:id="rId5"/>
          </p:cNvPr>
          <p:cNvPicPr/>
          <p:nvPr/>
        </p:nvPicPr>
        <p:blipFill>
          <a:blip r:embed="rId6"/>
          <a:stretch/>
        </p:blipFill>
        <p:spPr>
          <a:xfrm>
            <a:off x="457200" y="457200"/>
            <a:ext cx="3048120" cy="1657440"/>
          </a:xfrm>
          <a:prstGeom prst="rect">
            <a:avLst/>
          </a:prstGeom>
          <a:ln w="0">
            <a:noFill/>
          </a:ln>
        </p:spPr>
      </p:pic>
      <p:pic>
        <p:nvPicPr>
          <p:cNvPr id="93" name="" descr="Go to fullsize image">
            <a:hlinkClick r:id="rId7"/>
          </p:cNvPr>
          <p:cNvPicPr/>
          <p:nvPr/>
        </p:nvPicPr>
        <p:blipFill>
          <a:blip r:embed="rId8"/>
          <a:stretch/>
        </p:blipFill>
        <p:spPr>
          <a:xfrm>
            <a:off x="6934320" y="5334120"/>
            <a:ext cx="1676160" cy="112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olidays</a:t>
            </a:r>
            <a:endParaRPr b="0" lang="en-US" sz="4400" spc="-1" strike="noStrike">
              <a:solidFill>
                <a:srgbClr val="d1d1df"/>
              </a:solidFill>
              <a:latin typeface="Tahoma"/>
            </a:endParaRPr>
          </a:p>
        </p:txBody>
      </p:sp>
      <p:sp>
        <p:nvSpPr>
          <p:cNvPr id="130" name="PlaceHolder 2"/>
          <p:cNvSpPr>
            <a:spLocks noGrp="1"/>
          </p:cNvSpPr>
          <p:nvPr>
            <p:ph/>
          </p:nvPr>
        </p:nvSpPr>
        <p:spPr>
          <a:xfrm>
            <a:off x="38088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Day…. January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Tsagaan sar(white moon)… Late January to early March (depending on the lunar calendar) often celebrated around the time of the Chinese New Year. Families burn candles around the altar symbolizing enlightment. People wear costumes and exchange gifts.</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ternational Women's Day… March 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en's and Soldiers Day… March 1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others and Children's Day… June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aadam Holiday… July 11-13</a:t>
            </a:r>
            <a:r>
              <a:rPr b="0" lang="en-US" sz="2000" spc="-1" strike="noStrike" baseline="30000">
                <a:solidFill>
                  <a:srgbClr val="ffffff"/>
                </a:solidFill>
                <a:latin typeface="Kristen ITC"/>
              </a:rPr>
              <a:t>th</a:t>
            </a:r>
            <a:r>
              <a:rPr b="0" lang="en-US" sz="2000" spc="-1" strike="noStrike">
                <a:solidFill>
                  <a:srgbClr val="ffffff"/>
                </a:solidFill>
                <a:latin typeface="Kristen ITC"/>
              </a:rPr>
              <a:t> –Men compete in three games: wrestling, horse racing, and archery. Women have started competing in horse racing and archery but not in wrestling.</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dependence Day… November 26</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Eve… December 3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p:txBody>
      </p:sp>
      <p:pic>
        <p:nvPicPr>
          <p:cNvPr id="131" name="" descr="Go to fullsize image">
            <a:hlinkClick r:id="rId1"/>
          </p:cNvPr>
          <p:cNvPicPr/>
          <p:nvPr/>
        </p:nvPicPr>
        <p:blipFill>
          <a:blip r:embed="rId2"/>
          <a:stretch/>
        </p:blipFill>
        <p:spPr>
          <a:xfrm>
            <a:off x="609480" y="5562720"/>
            <a:ext cx="1524240" cy="1028520"/>
          </a:xfrm>
          <a:prstGeom prst="rect">
            <a:avLst/>
          </a:prstGeom>
          <a:ln w="0">
            <a:noFill/>
          </a:ln>
        </p:spPr>
      </p:pic>
      <p:pic>
        <p:nvPicPr>
          <p:cNvPr id="132" name="" descr="Go to fullsize image">
            <a:hlinkClick r:id="rId3"/>
          </p:cNvPr>
          <p:cNvPicPr/>
          <p:nvPr/>
        </p:nvPicPr>
        <p:blipFill>
          <a:blip r:embed="rId4"/>
          <a:stretch/>
        </p:blipFill>
        <p:spPr>
          <a:xfrm>
            <a:off x="5105520" y="5105520"/>
            <a:ext cx="1466640" cy="1523880"/>
          </a:xfrm>
          <a:prstGeom prst="rect">
            <a:avLst/>
          </a:prstGeom>
          <a:ln w="0">
            <a:noFill/>
          </a:ln>
        </p:spPr>
      </p:pic>
      <p:sp>
        <p:nvSpPr>
          <p:cNvPr id="133" name=""/>
          <p:cNvSpPr/>
          <p:nvPr/>
        </p:nvSpPr>
        <p:spPr>
          <a:xfrm>
            <a:off x="380880" y="16002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Day…. January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Tsagaan sar(white moon)… Late January to early March (depending on the lunar calendar) often celebrated around the time of the Chinese New Year. Families burn candles around the altar symbolizing enlightment. People wear costumes and exchange gifts.</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ternational Women's Day… March 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en's and Soldiers Day… March 1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others and Children's Day… June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aadam Holiday… July 11-13</a:t>
            </a:r>
            <a:r>
              <a:rPr b="0" lang="en-US" sz="2000" spc="-1" strike="noStrike" baseline="30000">
                <a:solidFill>
                  <a:srgbClr val="ffffff"/>
                </a:solidFill>
                <a:latin typeface="Kristen ITC"/>
              </a:rPr>
              <a:t>th</a:t>
            </a:r>
            <a:r>
              <a:rPr b="0" lang="en-US" sz="2000" spc="-1" strike="noStrike">
                <a:solidFill>
                  <a:srgbClr val="ffffff"/>
                </a:solidFill>
                <a:latin typeface="Kristen ITC"/>
              </a:rPr>
              <a:t> –Men compete in three games: wrestling, horse racing, and archery. Women have started competing in horse racing and archery but not in wrestling.</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dependence Day… November 26</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Eve… December 3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p:txBody>
      </p:sp>
      <p:pic>
        <p:nvPicPr>
          <p:cNvPr id="134" name="" descr="Go to fullsize image"/>
          <p:cNvPicPr/>
          <p:nvPr/>
        </p:nvPicPr>
        <p:blipFill>
          <a:blip r:embed="rId5"/>
          <a:stretch/>
        </p:blipFill>
        <p:spPr>
          <a:xfrm>
            <a:off x="2819520" y="5638680"/>
            <a:ext cx="1523880" cy="1038240"/>
          </a:xfrm>
          <a:prstGeom prst="rect">
            <a:avLst/>
          </a:prstGeom>
          <a:ln w="0">
            <a:noFill/>
          </a:ln>
        </p:spPr>
      </p:pic>
      <p:pic>
        <p:nvPicPr>
          <p:cNvPr id="135" name="" descr="View Image"/>
          <p:cNvPicPr/>
          <p:nvPr/>
        </p:nvPicPr>
        <p:blipFill>
          <a:blip r:embed="rId6"/>
          <a:stretch/>
        </p:blipFill>
        <p:spPr>
          <a:xfrm>
            <a:off x="6858000" y="5257800"/>
            <a:ext cx="1828800" cy="137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Bibliography</a:t>
            </a:r>
            <a:endParaRPr b="0" lang="en-US" sz="4400" spc="-1" strike="noStrike">
              <a:solidFill>
                <a:srgbClr val="d1d1df"/>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12000"/>
          </a:bodyPr>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1"/>
              </a:rPr>
              <a:t>http://en.wikipedia.org/wiki/Mongolian_cuisine</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2"/>
              </a:rPr>
              <a:t>http://www.state.gov/r/pa/ei/bgn/2779.htm</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3"/>
              </a:rPr>
              <a:t>https://www.cia.gov/library/publications/the-world-factbook/geos/mg.html</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4"/>
              </a:rPr>
              <a:t>http://www.spainexchange.com/guide/MN-education.htm</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5"/>
              </a:rPr>
              <a:t>http://en.wikipedia.org/wiki/Mongolia#Religion</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6"/>
              </a:rPr>
              <a:t>http://worldfacts.us/Mongolia.htm</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7"/>
              </a:rPr>
              <a:t>http://en.wikipedia.org/wiki/Mongolian_culture</a:t>
            </a:r>
            <a:r>
              <a:rPr b="0" lang="en-US" sz="1800" spc="-1" strike="noStrike">
                <a:solidFill>
                  <a:srgbClr val="ffffff"/>
                </a:solidFill>
                <a:latin typeface="Tahoma"/>
              </a:rPr>
              <a:t> </a:t>
            </a:r>
            <a:endParaRPr b="0" lang="en-US" sz="1800" spc="-1" strike="noStrike">
              <a:solidFill>
                <a:srgbClr val="ffffff"/>
              </a:solidFill>
              <a:latin typeface="Tahoma"/>
            </a:endParaRPr>
          </a:p>
          <a:p>
            <a:pPr marL="41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1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41040">
              <a:lnSpc>
                <a:spcPct val="80000"/>
              </a:lnSpc>
              <a:spcBef>
                <a:spcPts val="2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Facts</a:t>
            </a:r>
            <a:endParaRPr b="0" lang="en-US" sz="4400" spc="-1" strike="noStrike">
              <a:solidFill>
                <a:srgbClr val="d1d1df"/>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country of Mongolia is a little larger than the state of Alaska.</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lmost 90% of the land are is either pasture or desert. 9% is forested and 1% is arable</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climate is continental. Mongolia gets little precipitation and sharp seasonal fluctuations.</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s of 2009, the population of Mongolia is 2,951,787  and the annual growth rate is 1.4%.</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s of 2010, the life expectancy was: Male- 65 years old. Female- 70 years old.</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primary language spoken is Mongolia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 descr="Go to fullsize image">
            <a:hlinkClick r:id="rId1"/>
          </p:cNvPr>
          <p:cNvPicPr/>
          <p:nvPr/>
        </p:nvPicPr>
        <p:blipFill>
          <a:blip r:embed="rId2"/>
          <a:stretch/>
        </p:blipFill>
        <p:spPr>
          <a:xfrm>
            <a:off x="457200" y="5562720"/>
            <a:ext cx="1523880" cy="1143000"/>
          </a:xfrm>
          <a:prstGeom prst="rect">
            <a:avLst/>
          </a:prstGeom>
          <a:ln w="0">
            <a:noFill/>
          </a:ln>
        </p:spPr>
      </p:pic>
      <p:pic>
        <p:nvPicPr>
          <p:cNvPr id="97" name="" descr="Go to fullsize image">
            <a:hlinkClick r:id="rId3"/>
          </p:cNvPr>
          <p:cNvPicPr/>
          <p:nvPr/>
        </p:nvPicPr>
        <p:blipFill>
          <a:blip r:embed="rId4"/>
          <a:stretch/>
        </p:blipFill>
        <p:spPr>
          <a:xfrm>
            <a:off x="6477120" y="285840"/>
            <a:ext cx="1752480" cy="131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Religion</a:t>
            </a:r>
            <a:endParaRPr b="0" lang="en-US" sz="4400" spc="-1" strike="noStrike">
              <a:solidFill>
                <a:srgbClr val="d1d1df"/>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 of the Mongolian people are some type of Buddhist.</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re Muslim</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of the population practices Christianity</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maining 1% is either Roman Catholic or Members of the Russian Orthodox Church.</a:t>
            </a:r>
            <a:endParaRPr b="0" lang="en-US" sz="3200" spc="-1" strike="noStrike">
              <a:solidFill>
                <a:srgbClr val="ffffff"/>
              </a:solidFill>
              <a:latin typeface="Tahoma"/>
            </a:endParaRPr>
          </a:p>
        </p:txBody>
      </p:sp>
      <p:pic>
        <p:nvPicPr>
          <p:cNvPr id="100" name="" descr="Go to fullsize image">
            <a:hlinkClick r:id="rId1"/>
          </p:cNvPr>
          <p:cNvPicPr/>
          <p:nvPr/>
        </p:nvPicPr>
        <p:blipFill>
          <a:blip r:embed="rId2"/>
          <a:stretch/>
        </p:blipFill>
        <p:spPr>
          <a:xfrm>
            <a:off x="7696080" y="457200"/>
            <a:ext cx="1143000" cy="1093680"/>
          </a:xfrm>
          <a:prstGeom prst="rect">
            <a:avLst/>
          </a:prstGeom>
          <a:ln w="0">
            <a:noFill/>
          </a:ln>
        </p:spPr>
      </p:pic>
      <p:pic>
        <p:nvPicPr>
          <p:cNvPr id="101" name="" descr="Go to fullsize image">
            <a:hlinkClick r:id="rId3"/>
          </p:cNvPr>
          <p:cNvPicPr/>
          <p:nvPr/>
        </p:nvPicPr>
        <p:blipFill>
          <a:blip r:embed="rId4"/>
          <a:stretch/>
        </p:blipFill>
        <p:spPr>
          <a:xfrm>
            <a:off x="4724280" y="2133720"/>
            <a:ext cx="857520" cy="1295280"/>
          </a:xfrm>
          <a:prstGeom prst="rect">
            <a:avLst/>
          </a:prstGeom>
          <a:ln w="0">
            <a:noFill/>
          </a:ln>
        </p:spPr>
      </p:pic>
      <p:pic>
        <p:nvPicPr>
          <p:cNvPr id="102" name="" descr="Go to fullsize image">
            <a:hlinkClick r:id="rId5"/>
          </p:cNvPr>
          <p:cNvPicPr/>
          <p:nvPr/>
        </p:nvPicPr>
        <p:blipFill>
          <a:blip r:embed="rId6"/>
          <a:stretch/>
        </p:blipFill>
        <p:spPr>
          <a:xfrm>
            <a:off x="7696080" y="3809880"/>
            <a:ext cx="885960" cy="1524240"/>
          </a:xfrm>
          <a:prstGeom prst="rect">
            <a:avLst/>
          </a:prstGeom>
          <a:ln w="0">
            <a:noFill/>
          </a:ln>
        </p:spPr>
      </p:pic>
      <p:pic>
        <p:nvPicPr>
          <p:cNvPr id="103" name="" descr="Go to fullsize image">
            <a:hlinkClick r:id="rId7"/>
          </p:cNvPr>
          <p:cNvPicPr/>
          <p:nvPr/>
        </p:nvPicPr>
        <p:blipFill>
          <a:blip r:embed="rId8"/>
          <a:stretch/>
        </p:blipFill>
        <p:spPr>
          <a:xfrm>
            <a:off x="2057400" y="54864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Education</a:t>
            </a:r>
            <a:endParaRPr b="0" lang="en-US" sz="4400" spc="-1" strike="noStrike">
              <a:solidFill>
                <a:srgbClr val="d1d1d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literacy rate is 99.1%</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official school age entrance is 6.</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chool begins every year on September 1</a:t>
            </a:r>
            <a:r>
              <a:rPr b="0" lang="en-US" sz="2800" spc="-1" strike="noStrike" baseline="30000">
                <a:solidFill>
                  <a:srgbClr val="ffffff"/>
                </a:solidFill>
                <a:latin typeface="Kristen ITC"/>
              </a:rPr>
              <a:t>st</a:t>
            </a:r>
            <a:r>
              <a:rPr b="0" lang="en-US" sz="2800" spc="-1" strike="noStrike">
                <a:solidFill>
                  <a:srgbClr val="ffffff"/>
                </a:solidFill>
                <a:latin typeface="Kristen ITC"/>
              </a:rPr>
              <a:t>. </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education system is composed of nursery, kindergarten, primary school, secondary school, and university study.</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tudents are in school anywhere between 10 and 12 years.</a:t>
            </a:r>
            <a:endParaRPr b="0" lang="en-US" sz="2800" spc="-1" strike="noStrike">
              <a:solidFill>
                <a:srgbClr val="ffffff"/>
              </a:solidFill>
              <a:latin typeface="Tahoma"/>
            </a:endParaRPr>
          </a:p>
        </p:txBody>
      </p:sp>
      <p:pic>
        <p:nvPicPr>
          <p:cNvPr id="106" name="" descr="">
            <a:hlinkClick r:id="rId1"/>
          </p:cNvPr>
          <p:cNvPicPr/>
          <p:nvPr/>
        </p:nvPicPr>
        <p:blipFill>
          <a:blip r:embed="rId2"/>
          <a:stretch/>
        </p:blipFill>
        <p:spPr>
          <a:xfrm>
            <a:off x="6324480" y="228600"/>
            <a:ext cx="2381400" cy="1790640"/>
          </a:xfrm>
          <a:prstGeom prst="rect">
            <a:avLst/>
          </a:prstGeom>
          <a:ln w="0">
            <a:noFill/>
          </a:ln>
        </p:spPr>
      </p:pic>
      <p:pic>
        <p:nvPicPr>
          <p:cNvPr id="107" name="" descr="View Image">
            <a:hlinkClick r:id="rId3"/>
          </p:cNvPr>
          <p:cNvPicPr/>
          <p:nvPr/>
        </p:nvPicPr>
        <p:blipFill>
          <a:blip r:embed="rId4"/>
          <a:stretch/>
        </p:blipFill>
        <p:spPr>
          <a:xfrm>
            <a:off x="155520" y="46080"/>
            <a:ext cx="2381400" cy="1600200"/>
          </a:xfrm>
          <a:prstGeom prst="rect">
            <a:avLst/>
          </a:prstGeom>
          <a:ln w="0">
            <a:noFill/>
          </a:ln>
        </p:spPr>
      </p:pic>
      <p:pic>
        <p:nvPicPr>
          <p:cNvPr id="108" name="" descr="Go to fullsize image">
            <a:hlinkClick r:id="rId5"/>
          </p:cNvPr>
          <p:cNvPicPr/>
          <p:nvPr/>
        </p:nvPicPr>
        <p:blipFill>
          <a:blip r:embed="rId6"/>
          <a:stretch/>
        </p:blipFill>
        <p:spPr>
          <a:xfrm>
            <a:off x="3962520" y="502920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Mongolian Food</a:t>
            </a:r>
            <a:endParaRPr b="0" lang="en-US" sz="4400" spc="-1" strike="noStrike">
              <a:solidFill>
                <a:srgbClr val="d1d1df"/>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golian cuisine consists mostly of dairy products, meat, and animal fats.  </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se of vegetables and spices is limited.</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getables are often pickled in jar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golia has an extremely fatty diet.</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d pancakes made with mutton and flour are common.</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snacks are made from dried milk curd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sh is only sometimes available at market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ple grain food is </a:t>
            </a:r>
            <a:r>
              <a:rPr b="0" i="1" lang="en-US" sz="2400" spc="-1" strike="noStrike">
                <a:solidFill>
                  <a:srgbClr val="ffffff"/>
                </a:solidFill>
                <a:latin typeface="Tahoma"/>
              </a:rPr>
              <a:t>bordzig</a:t>
            </a:r>
            <a:r>
              <a:rPr b="0" lang="en-US" sz="2400" spc="-1" strike="noStrike">
                <a:solidFill>
                  <a:srgbClr val="ffffff"/>
                </a:solidFill>
                <a:latin typeface="Tahoma"/>
              </a:rPr>
              <a:t>. It is a soft pastry made from wheat that is deep fried.</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wo most available beverages in Mongolia are the Chinese and Russian teas.</a:t>
            </a: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Go to fullsize image">
            <a:hlinkClick r:id="rId1"/>
          </p:cNvPr>
          <p:cNvPicPr/>
          <p:nvPr/>
        </p:nvPicPr>
        <p:blipFill>
          <a:blip r:embed="rId2"/>
          <a:stretch/>
        </p:blipFill>
        <p:spPr>
          <a:xfrm>
            <a:off x="304920" y="533520"/>
            <a:ext cx="1523880" cy="1143000"/>
          </a:xfrm>
          <a:prstGeom prst="rect">
            <a:avLst/>
          </a:prstGeom>
          <a:ln w="0">
            <a:noFill/>
          </a:ln>
        </p:spPr>
      </p:pic>
      <p:pic>
        <p:nvPicPr>
          <p:cNvPr id="112" name="" descr="Go to fullsize image">
            <a:hlinkClick r:id="rId3"/>
          </p:cNvPr>
          <p:cNvPicPr/>
          <p:nvPr/>
        </p:nvPicPr>
        <p:blipFill>
          <a:blip r:embed="rId4"/>
          <a:stretch/>
        </p:blipFill>
        <p:spPr>
          <a:xfrm>
            <a:off x="7238880" y="609480"/>
            <a:ext cx="1524240" cy="1371600"/>
          </a:xfrm>
          <a:prstGeom prst="rect">
            <a:avLst/>
          </a:prstGeom>
          <a:ln w="0">
            <a:noFill/>
          </a:ln>
        </p:spPr>
      </p:pic>
      <p:pic>
        <p:nvPicPr>
          <p:cNvPr id="113" name="" descr="Go to fullsize image">
            <a:hlinkClick r:id="rId5"/>
          </p:cNvPr>
          <p:cNvPicPr/>
          <p:nvPr/>
        </p:nvPicPr>
        <p:blipFill>
          <a:blip r:embed="rId6"/>
          <a:stretch/>
        </p:blipFill>
        <p:spPr>
          <a:xfrm>
            <a:off x="7238880" y="2514600"/>
            <a:ext cx="15242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Government</a:t>
            </a:r>
            <a:endParaRPr b="0" lang="en-US" sz="4400" spc="-1" strike="noStrike">
              <a:solidFill>
                <a:srgbClr val="d1d1df"/>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sakhiagiin Elbegdorj is the current president of Mongolia.</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He was elected as president on May 24, 2009 and inaugurated on June 18</a:t>
            </a:r>
            <a:r>
              <a:rPr b="0" lang="en-US" sz="2400" spc="-1" strike="noStrike" baseline="30000">
                <a:solidFill>
                  <a:srgbClr val="ffffff"/>
                </a:solidFill>
                <a:latin typeface="Kristen ITC"/>
              </a:rPr>
              <a:t>th</a:t>
            </a:r>
            <a:r>
              <a:rPr b="0" lang="en-US" sz="2400" spc="-1" strike="noStrike">
                <a:solidFill>
                  <a:srgbClr val="ffffff"/>
                </a:solidFill>
                <a:latin typeface="Kristen ITC"/>
              </a:rPr>
              <a:t>.</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He was a former two-time prime minister of the Democratic Party.</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o be a president, you must have to: be born in Mongolia, be at least 45 years old, and you must have resided in Mongolia for at least five years prior to taking office.</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Each term is 4 years long.</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Kristen ITC"/>
              </a:rPr>
              <a:t>1.00 Mongolian Tugrik = 0.00082 U.S. Dolla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6" name="" descr="Go to fullsize image">
            <a:hlinkClick r:id="rId1"/>
          </p:cNvPr>
          <p:cNvPicPr/>
          <p:nvPr/>
        </p:nvPicPr>
        <p:blipFill>
          <a:blip r:embed="rId2"/>
          <a:stretch/>
        </p:blipFill>
        <p:spPr>
          <a:xfrm>
            <a:off x="304920" y="380880"/>
            <a:ext cx="1523880" cy="1133640"/>
          </a:xfrm>
          <a:prstGeom prst="rect">
            <a:avLst/>
          </a:prstGeom>
          <a:ln w="0">
            <a:noFill/>
          </a:ln>
        </p:spPr>
      </p:pic>
      <p:pic>
        <p:nvPicPr>
          <p:cNvPr id="117" name="" descr="Go to fullsize image">
            <a:hlinkClick r:id="rId3"/>
          </p:cNvPr>
          <p:cNvPicPr/>
          <p:nvPr/>
        </p:nvPicPr>
        <p:blipFill>
          <a:blip r:embed="rId4"/>
          <a:stretch/>
        </p:blipFill>
        <p:spPr>
          <a:xfrm>
            <a:off x="7924680" y="152280"/>
            <a:ext cx="1038240" cy="1524240"/>
          </a:xfrm>
          <a:prstGeom prst="rect">
            <a:avLst/>
          </a:prstGeom>
          <a:ln w="0">
            <a:noFill/>
          </a:ln>
        </p:spPr>
      </p:pic>
      <p:pic>
        <p:nvPicPr>
          <p:cNvPr id="118" name="" descr="View Image">
            <a:hlinkClick r:id="rId5"/>
          </p:cNvPr>
          <p:cNvPicPr/>
          <p:nvPr/>
        </p:nvPicPr>
        <p:blipFill>
          <a:blip r:embed="rId6"/>
          <a:stretch/>
        </p:blipFill>
        <p:spPr>
          <a:xfrm>
            <a:off x="7543800" y="4800600"/>
            <a:ext cx="1467000" cy="1014480"/>
          </a:xfrm>
          <a:prstGeom prst="rect">
            <a:avLst/>
          </a:prstGeom>
          <a:ln w="0">
            <a:noFill/>
          </a:ln>
        </p:spPr>
      </p:pic>
      <p:pic>
        <p:nvPicPr>
          <p:cNvPr id="119" name="" descr="Go to fullsize image">
            <a:hlinkClick r:id="rId7"/>
          </p:cNvPr>
          <p:cNvPicPr/>
          <p:nvPr/>
        </p:nvPicPr>
        <p:blipFill>
          <a:blip r:embed="rId8"/>
          <a:stretch/>
        </p:blipFill>
        <p:spPr>
          <a:xfrm>
            <a:off x="1676520" y="5943600"/>
            <a:ext cx="1523880" cy="74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Mongolian Death Worm</a:t>
            </a:r>
            <a:endParaRPr b="0" lang="en-US" sz="4400" spc="-1" strike="noStrike">
              <a:solidFill>
                <a:srgbClr val="d1d1df"/>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ngolian Death Worm is a creature that supposedly lives in the Gobi Desert</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ly described as a cryptic.</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described as a bright red worm. The body width is said to be 2-5 feet long.</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laims come in from the Mongolian Locals.</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people have sai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worm has the ability to spew out acid. When it comes in contact with anything it will turn it yellow and corroded (meaning it would kill human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it can kill from a distance by means of electrical discharge.</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said to live underground hibernation. It only comes out during the months of June and July.</a:t>
            </a:r>
            <a:endParaRPr b="0" lang="en-US" sz="2000" spc="-1" strike="noStrike">
              <a:solidFill>
                <a:srgbClr val="ffffff"/>
              </a:solidFill>
              <a:latin typeface="Tahoma"/>
            </a:endParaRPr>
          </a:p>
        </p:txBody>
      </p:sp>
      <p:pic>
        <p:nvPicPr>
          <p:cNvPr id="122" name="" descr="Go to fullsize image">
            <a:hlinkClick r:id="rId1"/>
          </p:cNvPr>
          <p:cNvPicPr/>
          <p:nvPr/>
        </p:nvPicPr>
        <p:blipFill>
          <a:blip r:embed="rId2"/>
          <a:stretch/>
        </p:blipFill>
        <p:spPr>
          <a:xfrm>
            <a:off x="3505320" y="5410080"/>
            <a:ext cx="1904760" cy="116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Agriculture, Industries, Exports and Imports</a:t>
            </a:r>
            <a:endParaRPr b="0" lang="en-US" sz="4000" spc="-1" strike="noStrike">
              <a:solidFill>
                <a:srgbClr val="d1d1df"/>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Agriculture crops grown in Mongolia includes: wheat, barley, potatoes, forage crops, sheep, goats, cattle, camels, and horses.</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Imports include: machinery and equipment, fuel, cars, food products, industrial consumer goods, chemicals, building materials, sugar, and tea.</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Exports: copper, livestock, animal products, cashmere, wool, hides, fluorspar, other nonferrous metals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Industries: construction materials; mining (coal, copper, molybdenum, fluorspar, and gold); oil; food and beverages; processing of animal products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Mongolia imports products from: Russia 33.4%, China 26.6%, Japan 6.6%, South Korea 5.9%, Germany 4.3%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And exports products to: China 54.4%, US 14.3%, Canada 13.5%, UK 4.7%   </a:t>
            </a:r>
            <a:endParaRPr b="0" lang="en-US" sz="1800" spc="-1" strike="noStrike">
              <a:solidFill>
                <a:srgbClr val="ffffff"/>
              </a:solidFill>
              <a:latin typeface="Tahoma"/>
            </a:endParaRPr>
          </a:p>
        </p:txBody>
      </p:sp>
      <p:pic>
        <p:nvPicPr>
          <p:cNvPr id="125" name="" descr="Go to fullsize image">
            <a:hlinkClick r:id="rId1"/>
          </p:cNvPr>
          <p:cNvPicPr/>
          <p:nvPr/>
        </p:nvPicPr>
        <p:blipFill>
          <a:blip r:embed="rId2"/>
          <a:stretch/>
        </p:blipFill>
        <p:spPr>
          <a:xfrm>
            <a:off x="2743200" y="54864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Superstitions and Customs</a:t>
            </a:r>
            <a:endParaRPr b="0" lang="en-US" sz="4400" spc="-1" strike="noStrike">
              <a:solidFill>
                <a:srgbClr val="d1d1df"/>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st endangered people in the families were the children so sometimes children would have to change their names or sometimes the boys would have to dress up as girls.</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you go out at night, young children are supposed to put charcoal on their foreheads. This is supposed to protect them from the evil spirits. This works because the evil spirits believe the children are bunnies with dark or black hair on their forehea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if you talk bad towards others or if you do something wrong, misfortune would be attracte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of a child's first celebrations is their first hair cut. This usually happens when the child is 3-5 years ol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rthdays weren’t celebrated many years ago. Today, birthdays are popular.</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ceased relatives were usually laid to rest in the open where corpses would be eaten by animals. Nowadays, corpses are usually buried.</a:t>
            </a:r>
            <a:endParaRPr b="0" lang="en-US" sz="2000" spc="-1" strike="noStrike">
              <a:solidFill>
                <a:srgbClr val="ffffff"/>
              </a:solidFill>
              <a:latin typeface="Tahoma"/>
            </a:endParaRPr>
          </a:p>
        </p:txBody>
      </p:sp>
      <p:pic>
        <p:nvPicPr>
          <p:cNvPr id="128" name="" descr="Go to fullsize image">
            <a:hlinkClick r:id="rId1"/>
          </p:cNvPr>
          <p:cNvPicPr/>
          <p:nvPr/>
        </p:nvPicPr>
        <p:blipFill>
          <a:blip r:embed="rId2"/>
          <a:stretch/>
        </p:blipFill>
        <p:spPr>
          <a:xfrm>
            <a:off x="2666880" y="5562720"/>
            <a:ext cx="1143000" cy="11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2T17:01:39Z</dcterms:created>
  <dc:creator>VASEK</dc:creator>
  <dc:description/>
  <dc:language>en-US</dc:language>
  <cp:lastModifiedBy>VASEK</cp:lastModifiedBy>
  <dcterms:modified xsi:type="dcterms:W3CDTF">2011-05-22T21:01:43Z</dcterms:modified>
  <cp:revision>7</cp:revision>
  <dc:subject/>
  <dc:title>Mongolia</dc:title>
</cp:coreProperties>
</file>